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05E-A46F-4EBB-B23C-94F0DAFB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EEB-2D15-4E1D-9F2B-1E208460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B97-0706-4134-9A2D-098068FD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DB3-ABEA-49DD-A4F6-2929F03D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8991-E879-4775-AEA2-A5E50450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8B5E-F3FE-4A16-AC5A-91D0A014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2266-9E33-4C1B-A34B-45F4AC3B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09DE-6543-47B9-99A5-5BBF7A8B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49D1-0718-43FF-939E-764920F0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E3D1-7F94-44DA-9FAD-2AD29684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60F1-6BD1-49E7-BDCC-767C117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546-8DF2-4BEE-90A4-3E5C446A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6C73-DB92-4DF6-8B1F-8E68A567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5DD0-1BE7-4D3C-8F8F-A18A79A8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09F6-0B26-4BFA-A78C-674D84F5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C172-7FB6-4B78-8954-F15D1025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2E82-7E9E-4E70-BD33-7B5D9363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300-776D-48B8-B30D-423B537A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FBD-203D-4FF8-9C0E-06B2E1AF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CC9-30B8-418D-8616-3DF5DEE8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6F6-C4BA-41DD-8C6E-9DC249FC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54D-77C6-403F-B563-AA6CD68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F1C-7B31-4BE7-8996-D08F8CBC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3B5-FA66-4A49-9DD5-344FCD1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hilippe Lecat pour l'Université de Savo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2A1C-B9BD-4189-B63D-5279FF853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hilippe Lecat pour l'Université de Savo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432A-4729-49F4-94F1-E8EA3CD28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32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700" spc="-1" strike="noStrike">
                <a:solidFill>
                  <a:srgbClr val="336666"/>
                </a:solidFill>
                <a:latin typeface="Arial Black"/>
              </a:rPr>
              <a:t>Relations sociales</a:t>
            </a:r>
            <a:br>
              <a:rPr sz="3700"/>
            </a:br>
            <a:r>
              <a:rPr b="0" i="1" lang="fr-FR" sz="3700" spc="-1" strike="noStrike">
                <a:solidFill>
                  <a:srgbClr val="336666"/>
                </a:solidFill>
                <a:latin typeface="Arial Black"/>
              </a:rPr>
              <a:t>dans l’entreprise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6920" y="2060640"/>
            <a:ext cx="7707600" cy="35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Quelques principes en introd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Management social pour la GR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LOGO EST LAAY.jpg"/>
          <p:cNvPicPr/>
          <p:nvPr/>
        </p:nvPicPr>
        <p:blipFill>
          <a:blip r:embed="rId1"/>
          <a:stretch/>
        </p:blipFill>
        <p:spPr>
          <a:xfrm>
            <a:off x="3419640" y="6162840"/>
            <a:ext cx="21063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3D3D-6956-4B27-BC5D-C593671FDCB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La hiérarchie des norm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1788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2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jurispru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juges lorsqu’ils prennent une décision sont tenus d’appliquer la loi. Cependant ; ils en donnent parfois une interprétation pour adapter le texte de loi à une situation concrète. L’ensemble de ces décisions forme la jurisprudence. Elle est très riche en droit du trav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décrets, règlements et circulai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e sont les textes édictés par le gouvernement ou l’administration pour permettre l’application de la lo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1296-E35D-40EF-B4F3-9D039C2A3F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La hiérarchie des norm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120400"/>
            <a:ext cx="7648560" cy="37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onventions et les accords collec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es entreprises sont organisées par branches ou par méti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es syndicats d’employeurs et les syndicats de salariés signent au sein de ces branches des accords qui sont étendus par le ministre à toutes les entreprises du même mét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cords d’entre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ont signés par l’employeur et les syndicats représentants le personnel de l’entrepri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ntrat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règlement in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BFBD-E7CD-438C-98B4-03D7AD2DFC1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Organisation judiciair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869000"/>
            <a:ext cx="1512720" cy="1152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’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nde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979640" y="4869000"/>
            <a:ext cx="1368360" cy="1058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ud’ho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419640" y="494172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5940360" y="4869000"/>
            <a:ext cx="1368360" cy="1224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bunal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rec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ur d’Ass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0" y="4941720"/>
            <a:ext cx="1079640" cy="100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7451640" y="5013360"/>
            <a:ext cx="1130400" cy="100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bu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minist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611280" y="3716280"/>
            <a:ext cx="6481800" cy="1081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r d’ap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7524720" y="3789360"/>
            <a:ext cx="914400" cy="9144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ap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2771640" y="2205000"/>
            <a:ext cx="2592360" cy="9144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ur de Cas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6659640" y="2133720"/>
            <a:ext cx="2016000" cy="9144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eil d’E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3419640" y="4941720"/>
            <a:ext cx="936360" cy="358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4FE-79F8-4B51-AAEF-E48BEE63EB4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Historique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9900"/>
                </a:solidFill>
                <a:latin typeface="Arial"/>
              </a:rPr>
              <a:t>L’objet du droit du travail : la protection des travaill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 la relation individuelle à la relation coll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286000" y="2287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C4A3-96A7-4596-9692-15D59BC59EE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Historique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1945 La sécurité socia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organisation paritaire sous tut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juridiction propre : le T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 budget aussi important que celui de l’Ét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inq missions et cinq bran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vention des acci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vention de la malad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vention de la vieille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évention de la fam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’assurance chô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C831-8952-4F12-A655-DC731B66178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Historiqu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936 Les délégués du personn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stance de récla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945 Les comités d’entrepri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stance d’information et de consul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stion des œuvres 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968 Les délégués syndica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stance de revend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1983 Les comités d’hygiène et sécurit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stance d’information et de consul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6E40-B566-4145-8512-F6CBAE9B364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Relations individuel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Le contrat de travai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incipales obligations de l’employ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aiement du sa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alaire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barèmes des conventions d’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obligation de négociation annu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à travail égal, salaire égal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ournitur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hômage « techniqu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la GPEC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écu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une obligation de moyen à une obligation de résu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A8E-650E-4617-9DE9-70DE4023B23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Relations individuel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Le contrat de travai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lien de subord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t caractérisé par l'exécution d'un travail sous l'autorité d'un employeur qui a le pouvoir de donner des ordres et des directives, d'en contrôler l'exécution et de sanctionner les manquements de son subordon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bligation d’exécuter le travail demand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bligation de rendre comp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bligation de loyauté et de discré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5A11-D7DC-4642-9B9C-3EA5E950FA1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Relations individuel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pouvoirs de l’employ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 direction et de g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rôle l’exécution et sanctionne le salari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règlement intéri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vis du CE et contrôle de l’inspecteur du trav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modification du contr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notion de condition substanti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prêt de main d’oeuv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AE3-DEC9-4F48-94E6-5B12BB3ACD2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Relations individuel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uspension et rupture du contrat de travai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Les cas de suspen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maladie, l’accident du travail, congé maternité,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Les cas de rup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démission et l’acte de rup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licenci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procédure protect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transac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rupture conventionn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5A9C-4F08-4FD8-8790-4F9C472C1BD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Préambu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e module n’a qu’une ambition : essayer de vous familiariser avec l’environnement légal de la GRH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Il ne s’agit pas pour vous de le connaître mais de savoir où il se trou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Le code du travail est un élément de cet environnement (ce n’est pas le seu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9F8B-F424-4062-B71D-114890B7F58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Licencie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Cause économiqu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bligation de reclass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llectif ou individu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Fait personn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use réelle et série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aute gr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aute lou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Des procédure protectric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855C-FF00-452F-88BA-71BD04CCD8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Conclus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Les difficultés du droit du travai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travailleur est à la fois objet de droit du travail et sujet du droit du trav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 salarié je veux être considéré de façon object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fruit de mon travail peut être évalué et quantifié de manière impartiale. « A travail égal, salaire égal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garantie contre l’arbitraire supposé de mon employ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pendant ; je suis une personne particulière qui souhaite être appréciée différemment des autres. Ma rémunération est aussi fonction de ma fidélité et de mon attachement à l’entrepr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A4B-2A54-4450-B240-EDCA30958E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Conclus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droit du travail est déchiré entre deux aspirations contradictoires des salariés : la liberté et la sécurité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e veux pouvoir prendre mes RTT ou mes congés quand je veu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e veux le maintien de mon emplo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83B3-5155-48DE-AB75-60C8EAB263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Préambu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Souvent le manager se pose la ques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’est ce que j’ai le droit de fai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’est ce le droit du travail prévoit dans cette situ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a raison de se poser cette question mais, il a tort de penser que la réponse lui apportera une solution à son problème de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05F0-B36E-43C8-87F7-D155CD4FD29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Bibliographi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haque fois qu’une question de droit se pose, les RH utilisen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de du trav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convention coll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accords d’entrep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contrat de trav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règlement intéri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us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4B60-E35C-48D8-A717-69373CA3D80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6666"/>
                </a:solidFill>
                <a:latin typeface="Arial Black"/>
              </a:rPr>
              <a:t>Définition 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« Les relations sociales 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nsemble des règles régissant les rapports individuels et collectifs entre les salariés et l’employe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dividuels : le contrat de travail et tout ce qu’il compre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ollectifs : fonctionnement des institutions représentant le personnel auprès de l’employeu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1420-278C-444B-B43B-0AD579927E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Introduc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Un princip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contexte légal et formalis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relations sociales sont encadrées par le législateur plus que par le contrat ou les accords d’entrepri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ans l’intérêt des salariés, les règles de forme sont primordiales. L’employeur doit les respecter strictement à défaut de voir ses actes frappés de nullit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s toujour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B0FD-751F-4F00-996A-69AC00D0D43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336666"/>
                </a:solidFill>
                <a:latin typeface="Arial Black"/>
              </a:rPr>
              <a:t>Pas toujours 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droit de grè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 ce jour, il est cité dans le préambule de la constitution qui renvoie à des règles d’application qui n’ont jamais été établ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n’est pas encore obligatoire que le contrat de travail soit écr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relations sociales informelles sont plus efficaces que les relations sociales formel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plus efficaces pour qu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FB48-0B77-4451-8542-CCB4581065A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La hiérarchie des norm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1788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Arial"/>
              </a:rPr>
              <a:t>Par ordre de préséance 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traités internationa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’union européen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rte et di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hartes sont des accords que les États s’engagent à respecter. La Charte sociale européenne garantit les droits sociaux et économiques de l’homme. Adoptée en 1961, elle a été révisée en 199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5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directives sont prises par la commission européenne et les États doivent les transcrire dans leur dispositif législati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pied de page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stion des Ressources Huma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A1BB-B5EA-4C06-AB66-E0803AA704C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336666"/>
                </a:solidFill>
                <a:latin typeface="Arial Black"/>
              </a:rPr>
              <a:t>La hiérarchie des norme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1788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3348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co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946 et 195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200" indent="-37296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958, c’est celle de la V°République. Elle organise les pouvoirs et les compétences des institutions de l’État : le gouvernement, le parlement et les institutions judiciai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lo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17200" indent="-37296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le est voté par le parlement (principalement à la demande du gouvernement sous la V°République.) Certaines lois sont dites d’ordre public, c’est dire que nul ne peut y déroger. C’est souvent le cas en droit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14:23:11Z</dcterms:created>
  <dc:creator>Philippe Lecat</dc:creator>
  <dc:description/>
  <dc:language>en-US</dc:language>
  <cp:lastModifiedBy>ZAKARIA</cp:lastModifiedBy>
  <dcterms:modified xsi:type="dcterms:W3CDTF">2020-02-02T13:15:28Z</dcterms:modified>
  <cp:revision>92</cp:revision>
  <dc:subject/>
  <dc:title>Processus de gestion des compétences</dc:title>
</cp:coreProperties>
</file>