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E8C-D23F-4670-88FC-0784848F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117-1C36-4082-94DB-7885096A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BAC4E-9C56-407C-A9F4-5CD4EE5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309D9-6132-4663-8C3D-4E383835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8DD33-1BC5-4716-9895-D4B0B4DC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F6B6F-69CC-4683-9492-4D94BCD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4CC26-5CD7-4E74-B151-9E5292C5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6E081-564C-4990-B338-3ED97977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3D181-5323-4CC4-B42A-DC9DE260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64BAE-6894-4989-9384-5986B43D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4B07F-2695-43E7-8AB2-B38071DB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7D0B4-28D4-4FD0-812F-7AE92106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354-762A-4E69-AC9F-E2EF6F6C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ADC08-13CE-476D-B287-6303D367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744F4-1389-4A3E-A592-F4E8AAD4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7BFC6-BBB4-4981-AD45-9BE51AA5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3FCB0-D594-456F-A107-19982940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DB8BE-DBC1-4A90-BE1E-5B6B4E55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D8691-A4A4-4FB1-B98F-58D3344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ED1A5-6010-4BEB-AA0F-91A10323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FD2EB-3530-44BB-945C-0D32926B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C793A-BC60-4701-8262-CAD33502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64897-615A-4335-BD43-9E29ADB4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863-D582-4EAC-AC93-25F68313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9535F-3AB6-4D5F-98DB-CA2D0826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75D43-2AA4-4F79-BD60-2170503F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49138-9C86-411B-B54C-FB076AD7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E4DC5-79ED-4B05-AF72-31821DEE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B34B2-EAA6-43CF-A38A-27D7FF3C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80846-C96B-4C7F-A806-7EFA0AC2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945A7-EE9E-4FF9-BE1D-D646F6DD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22E03-3964-4909-9884-5CF2AE6C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7D472-46A8-4292-86AF-EE0B9604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7507D-90DE-4C80-A0E7-73428CD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5531-88B4-41A8-9300-2C5C5D14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6EFB1-F78B-4704-8053-0662034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F6356-5EC9-4326-8F42-EF2EA135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BF765-D317-4DC0-BA5E-03B255EC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746AD-93C8-4505-8A91-CD43EDA3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C4125-E59B-4BE1-BBA2-D8B5DE43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BC8E9-CDE6-48FE-B315-1FD666AB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81B77-F77D-4F7D-A4C7-0F9C1A8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D06F0-1A1C-41B2-8730-3F5150BB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309B68-AAC8-4D40-86CF-CEC63836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42976-49E8-4EF5-BECD-CDB97FBE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ADF4-9065-4BF3-8F61-A407DFAD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E5922-F331-4F08-896E-6BD05246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5E274-71FA-490B-8ADD-B47C6EE8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ED5A1-BD59-4EBE-8B0F-D5BDE442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11410-A33E-4241-AE25-06E15FD8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C7BBF-5EBC-4818-B7FF-A7A593E3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DB74-B707-402A-A5F5-6B4D002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B24E-34B0-40B3-ADEA-2AB7D26C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F104-D9E2-4217-BBD0-01E867A6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FB8B-5EA7-4AF0-B547-546F645F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A382-6AB9-46EB-BD45-AB5CD199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CA5-B9F6-4961-96DC-43731190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C32-F3CC-4B92-936B-F7984490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C12D-6633-4717-B7D6-EB0F6EA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9E60-1123-4D60-A8B8-08FD6D43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E65E-A8A3-4255-BC5E-BCC07B6F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CC58-B329-4F85-A413-8345D834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98B9-24C7-4CD9-AE65-A875D5B5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AAAA-8DA7-4FBB-A7BF-26AA5EA1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4695-52D4-4949-9A36-7C25EC70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A169-365C-410E-894C-E03B55A4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75AC-C571-4145-89AF-2BF476C3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DE9-D177-48BB-BCB7-C45B9B45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5407-B22A-47E9-9B64-866782F2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3318E-C259-433C-AB82-E488AAE9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3F76-112B-4EA6-B35C-25D58F1F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90775-9FD6-43EE-9F63-2805A5A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B2D7-7E9B-4A32-8676-A9C6E7E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8C4A-7292-4AC6-A116-73D48B8E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67E4-1183-402F-9022-A6B64C1C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519B-6C0B-46D8-AE60-89C89D79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9C45-B80B-4E67-8ECC-B298A53A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FDE5-FFF1-46F2-B522-A4CF5D7B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779-654F-4279-AD4E-6098CAC4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A8F2-03D9-4342-80BF-CA659075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AED8-AF27-4C91-8564-E00ED6B5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F360-98D7-405A-A499-4C6D0020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DD37-CE9B-4792-80D3-F159E2CF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D1F5-2754-47FB-A380-EF8A22A1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81AB-1A70-4756-9D1A-9D36BC0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B853B-13C4-4BBA-88EE-198D65BA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517B-5F15-4C6A-8A80-25F78AE0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E48FC-BECA-4868-92FC-279A8E48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96566-386C-46B9-AF55-0F6E2EF8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502-B87C-476F-9AFA-8D1809C2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5C668-0D83-45B3-83DB-A11BA299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8BAC-D684-4F8D-AC12-5DF2D134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008B-96E2-44D3-A69A-D24F98D0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CD9BE-53DD-4B15-89BD-50F31694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9861-8B65-47C7-8383-1940ADF4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183B3-4829-41FB-AEEC-42E9473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01E4C-BB05-4F0C-AFC9-26DF1BC2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250A7-2896-458B-9BC4-2CB94172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C79EF-FF14-4A79-9066-28D2B4B8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4D069-D9D5-4ED6-B993-927B0ADF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D99-6098-49DF-90A0-552833AD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4ADC6-D535-4A7A-924C-2B9F63A0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54A63-3D42-47F2-BECE-575C3E88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316BD-DBCC-4D27-B7BD-E2EA98B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C9D2-E77B-4539-BCB4-92970511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7AE61-A627-4323-8C4A-4F69F1A7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357C-B366-4FC7-85B4-907FFE6D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4E9C1-1EB3-420D-A116-F6CC821A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E2C7A-EA8C-4618-A173-D21F97F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11C3B-235E-4748-9D39-2BC5684D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E06A-E6B0-4EFA-86B4-BD9F1F0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DD7-4AC4-4412-8A2C-D55D4A0E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6A18-BB53-46D7-AA76-13E95A51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2EDA0-D363-4C3E-B664-06A37D03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483A-FDEA-4F38-B592-162E4DD7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F23B-A4A3-4DEA-8B27-05C75CAD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EED45-84B8-4C3D-B931-284CDC7D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7BCA-EF50-43F6-B833-71CE60AF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47784-5683-4F04-92D9-9B9EAA73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A7C8B-11DB-4FA6-8562-6A4598A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211A3-3866-4861-B9BA-05EFD74C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32C8B-7A46-49C4-AD6C-663827B7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CC9-C354-45F2-9A6F-46A5A46E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B757-757A-45AE-8AB6-73AA6F8D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4A0F4-F830-4856-9C28-41A9DDE8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40AA-5F61-49EE-9619-DA3D110F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DB383-C4A3-495A-AD98-632728AA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F853F-554B-4E98-83ED-1374D9B8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31C9B-A805-4013-AD11-22ED0ACD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8C0AE-6D00-4FA3-915B-5C151C9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0C85-ACA4-4FE0-9782-16453D93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457AE-A182-4C36-92A9-74891B6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015C5-2344-48B9-ADE4-AEABC221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2AE-387E-4670-9CA8-1A405EBB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F9F9B-8CD1-44A4-A63C-8ED9B052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07781-CF20-4E47-9E1D-39E3033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77D72-4C90-460A-BD98-E88DA20B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F79B0-90AC-4700-8790-F88AF8C8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3C7C3-AC6D-4388-978E-CCA41417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10E35-D797-40A4-A593-0BD379A7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37BB2-04F6-40A4-A352-35280FA7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DC25E-7585-4BD9-9168-0948E8EC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AB3F1-D18F-4FD9-820B-105B07A9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51F4E-55ED-47EC-839B-AF3771FA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2FFA-BA72-445E-BBB2-C3855A90197E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necteur droit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Ellipse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lipse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C20D-506E-4674-8212-433817992820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9496-0E06-47D6-B6DA-71E03796C285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onnecteur droit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lipse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F28C-1D00-420C-B954-45747488119A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cteur droit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B3EE-6B4D-4896-AE6A-D9337ADA49AC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78BB-4F63-4CB8-89B1-3F33F779C048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cteur droit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ACFC-3DD0-4CC2-B794-F651C7666298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necteur droit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EBB-8C8F-4D47-AC95-F017E625647F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necteur droit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cteur droit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llipse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llipse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3508-C61B-4F83-A139-667D730B8A62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F525-F4F2-4860-B263-35B16A512BBC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F934-1EA2-424F-B13F-15E157AA5C9B}" type="slidenum">
              <a:rPr b="0" lang="fr-BE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necteur droit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llipse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llipse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398C-BD00-462C-BA31-E398343CB8D4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FONDS DE COMMERCE (Déf)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Ensemble des éléments meubles corporels (matériel, outillage, marchandises) et incorporels (droit au bail, nom, enseigne) qu’un commerçant ou un industriel groupe et organise en vue de la recherche d’une clientèle ( le fonds constitue une entité juridique distincte des éléments qui le composent)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Georgia"/>
              </a:rPr>
              <a:t>Matériel/ outill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Georgia"/>
              </a:rPr>
              <a:t>Marchandi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680" y="2471400"/>
            <a:ext cx="41990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Partie intégrante du FD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Sauf lorsque le commerçant est aussi propriétaire de l’immeuble où meubles st immeubles par destination (ex de statue décorant le hall d’un hôtel)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Recours au crédit : se procurer un financement par leur remise en 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Georgia"/>
              </a:rPr>
              <a:t>gage (nantissement avec dépossess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Eléments corporel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Eléments incorporel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00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Nom commerci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nseigne (emblème, dénomination de fantais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roits de la propriété industrielle et commerci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roit au renouvellement du bai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Flèche vers le bas 3"/>
          <p:cNvSpPr/>
          <p:nvPr/>
        </p:nvSpPr>
        <p:spPr>
          <a:xfrm>
            <a:off x="4357800" y="250020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lèche vers le bas 4"/>
          <p:cNvSpPr/>
          <p:nvPr/>
        </p:nvSpPr>
        <p:spPr>
          <a:xfrm>
            <a:off x="4357800" y="350028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lèche vers le bas 5"/>
          <p:cNvSpPr/>
          <p:nvPr/>
        </p:nvSpPr>
        <p:spPr>
          <a:xfrm>
            <a:off x="4357800" y="457200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Nom commercial (NC) / Enseig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NC = Moyen d’attirer une clientèle + valeur patrimoni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rotection légale (c/ tte forme d’usurpat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rotection en cas de notoriété exceptionnelle (mm en l’absence de risque de confus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nseigne = Mot de passe ou une  inscription apposée sur l’immeuble où est exploité le FD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rotégée par la  priorité d’us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Flèche vers le bas 3"/>
          <p:cNvSpPr/>
          <p:nvPr/>
        </p:nvSpPr>
        <p:spPr>
          <a:xfrm>
            <a:off x="4311720" y="3718080"/>
            <a:ext cx="484200" cy="546120"/>
          </a:xfrm>
          <a:prstGeom prst="downArrow">
            <a:avLst>
              <a:gd name="adj1" fmla="val 50000"/>
              <a:gd name="adj2" fmla="val 50076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3416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fr-FR" sz="3000" spc="-1" strike="noStrike">
                <a:solidFill>
                  <a:srgbClr val="7b9899"/>
                </a:solidFill>
                <a:latin typeface="Georgia"/>
              </a:rPr>
              <a:t>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Georgia"/>
              </a:rPr>
              <a:t>Dts de la propriété industrielle et commerciale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x. brevets d’invention, marques, dessins &amp; modèles industrie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Monopole d’exploitation - d’utilisation (titulair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Ils peuvent faire l’objet d’une cession (vente) globale du FDC ou d’une cession séparé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Flèche vers le bas 3"/>
          <p:cNvSpPr/>
          <p:nvPr/>
        </p:nvSpPr>
        <p:spPr>
          <a:xfrm>
            <a:off x="4143240" y="3071880"/>
            <a:ext cx="785880" cy="691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Dts de la propriété intellectuel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ts de la propriété littéraire et artistique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roits d’auteur (ouvrages, collections, logiciel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roits sur les renseignements non divulgués (secret de fabrique par exemple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rotection nationale + internation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Flèche vers le bas 4"/>
          <p:cNvSpPr/>
          <p:nvPr/>
        </p:nvSpPr>
        <p:spPr>
          <a:xfrm>
            <a:off x="4338720" y="414972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Dt au renouvellement du bai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’est quoi? = le dt systématique du locataire (propriétaire d’un fonds de commerce) de renouveler son contrat de bail avec les mêmes condi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hamp d’application (Cas où il est appliqué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xploitation d’un FD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Baux d’immeubles ou locaux dans lesquels des établissements d’enseignement privé exercent leur activité / Ou les cliniques et établissements similair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. Dans lesquels est exercée une activité pharmaceutique, laboratoires et cabinets radiolo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Notions voisin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Boutique == lieu d’exercice de l’activité / plus appropriée au commerce de détail traditionne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L’immeuble où il est exploité (murs) == propriété distincte et faisant partie d’une catégorie séparée des bien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L’entreprise == notion économique plus large (organisation pour exploiter des activités de production, distribution, services), non limitée aux Activités commercial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La clientèle == élément essentiel du FDC mais a existence juridique et matérielle distincte (clientèle n’est pas la propriété du commerçant = but de son commerce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Georgia"/>
              </a:rPr>
              <a:t>La loi n° 15-95 code de commerc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rt 79-8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« Le fonds de commerce est un bien meuble incorporel constitué par l’ensemble de biens mobiliers affectés à l’exercice d’une ou de plusieurs activités commerciales 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« …comprend obligatoirement: la clientèle et l’achalandage (…) 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Double flèche verticale 3"/>
          <p:cNvSpPr/>
          <p:nvPr/>
        </p:nvSpPr>
        <p:spPr>
          <a:xfrm>
            <a:off x="4286160" y="2000160"/>
            <a:ext cx="484200" cy="64296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lèche vers le bas 4"/>
          <p:cNvSpPr/>
          <p:nvPr/>
        </p:nvSpPr>
        <p:spPr>
          <a:xfrm>
            <a:off x="4286160" y="4214880"/>
            <a:ext cx="484200" cy="5493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Georgia"/>
              </a:rPr>
              <a:t>Clientèl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Georgia"/>
              </a:rPr>
              <a:t>Achalandag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ossibilité de contrat futur, renouvel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ersonnes assurant la revente de produits (par l’acha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chat/ 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Georgia"/>
              </a:rPr>
              <a:t>service reçu pour les qualités personnelles 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u commerça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chat/ 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Georgia"/>
              </a:rPr>
              <a:t>service reçu pour l’emplacement du commer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Georgia"/>
              </a:rPr>
              <a:t>La loi n° 15-95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Exclusion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Georgia"/>
              </a:rPr>
              <a:t>Sont exclus 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u bénéfice du fonds de commerce et de la protection légale y afférent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Georgia"/>
              </a:rPr>
              <a:t>Commerçant de fait 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: exercice habituel ou professionnel mais pas d’immatriculation au R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Georgia"/>
              </a:rPr>
              <a:t>Baux des locaux situés dans des centres commerciaux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 gérés sous une seule enseigne / Commerce intégr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Flèche vers le bas 3"/>
          <p:cNvSpPr/>
          <p:nvPr/>
        </p:nvSpPr>
        <p:spPr>
          <a:xfrm>
            <a:off x="4716360" y="2421000"/>
            <a:ext cx="48420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La clientèl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Qualité de </a:t>
            </a:r>
            <a:r>
              <a:rPr b="1" lang="fr-FR" sz="2700" spc="-1" strike="noStrike" u="sng">
                <a:solidFill>
                  <a:srgbClr val="ff0000"/>
                </a:solidFill>
                <a:uFillTx/>
                <a:latin typeface="Georgia"/>
              </a:rPr>
              <a:t>client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 = s’approvisionner régulièrement chez le commerça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artie intégrante de la propriété commerci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onséqu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1. Création du FDC à partir du moment d’existence d’une clientè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Flèche vers le bas 3"/>
          <p:cNvSpPr/>
          <p:nvPr/>
        </p:nvSpPr>
        <p:spPr>
          <a:xfrm>
            <a:off x="4325760" y="3859200"/>
            <a:ext cx="484200" cy="620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La clientèl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aractères issus de la jurisprudenc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lientèle réelle - certain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lientèle personnelle au titulaire du FD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lientèle commerciale (non pas civile);  licite (attachée à un commerce sur des choses pur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Flèche vers le bas 5"/>
          <p:cNvSpPr/>
          <p:nvPr/>
        </p:nvSpPr>
        <p:spPr>
          <a:xfrm>
            <a:off x="4286160" y="2214720"/>
            <a:ext cx="484200" cy="620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Eléments corporel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Eléments réels (choses corporelles) sur lesquels sont exercés des dro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Outillage / Matériel / Marchandise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Égal 3"/>
          <p:cNvSpPr/>
          <p:nvPr/>
        </p:nvSpPr>
        <p:spPr>
          <a:xfrm>
            <a:off x="4000680" y="30718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Georgia"/>
              </a:rPr>
              <a:t>Matériel/ outillag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Georgia"/>
              </a:rPr>
              <a:t>Marchandis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Objets corporels d’exploitation du FD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Machines + équipemen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Elément de plus en plus important (spécialisation des machines, ex. dans l’organisation des spectacles publics : les manèges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ctif circulant = matières premières et produits fin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Nature instable (détruites par consommat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Leur Destination = la ven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Eléments corporels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23:12:23Z</dcterms:created>
  <dc:creator>SAMSUNG</dc:creator>
  <dc:description/>
  <dc:language>en-US</dc:language>
  <cp:lastModifiedBy>Utilisateur Windows</cp:lastModifiedBy>
  <dcterms:modified xsi:type="dcterms:W3CDTF">2020-08-20T00:39:20Z</dcterms:modified>
  <cp:revision>42</cp:revision>
  <dc:subject/>
  <dc:title>Le fonds de commerce</dc:title>
</cp:coreProperties>
</file>